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A0D7-7210-4035-951E-7C4A3F4E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C75A-D0D2-49D0-B158-390AF291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E417-1157-46FC-AD45-283AB7D2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2BF-DA46-44F8-9870-93432D8A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144F-1D7E-491E-8AD1-D477FD50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CAF6-AFF9-4C44-B6F1-09E9C11D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F9D3-30A2-47C4-89AB-5303C0B9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D1AC-3A26-4919-BE30-BE39F3A1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A1FF-136D-472A-B72E-A588428A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819F-427C-4461-837B-BED6675E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167F-4365-4DF8-B25A-8CCAB3C6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259F-0AFF-426E-B430-AF1644F6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D938-9308-4067-8E22-B78F0E15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5A7F-BC69-45EB-AC0B-5BA7B504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9A35-D52E-4761-A31D-B3BA8DAF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466B-D4F0-4311-9AE4-6580253B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CF8A-8CA9-4DCE-B213-AFDA743E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8811F-22E4-439D-B892-E97D2C2A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30783-F4E6-414B-8397-CA0A48EB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A625A-046F-460C-BB58-10607469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B4CC9-1330-4D7E-A185-F23FBD40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143F0-A305-4B57-9935-61676498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E952-9001-4DDB-957F-E2372DA0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30B36-60AA-4FFB-8A7C-19CABEA5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DC6A0-A8C2-4805-A51A-442D52BA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FA363-3BA9-46FC-A5A1-F491C063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FCB0E-F383-4A14-9336-AA00B7B0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24FE7-00D6-44FE-BD7F-C876CF1E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FDD85-0364-4F6D-BCD8-55C79688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45CCD-3B19-49C8-9D8B-91CC0724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FFFA1-7C57-41EC-A59F-7A1B6D8F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06426-952B-496E-9A02-CC827988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51A1E-ABC7-4121-B6F0-DC8343A0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514D-B028-4357-A8AE-1E077192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B1946-C07A-426D-84EA-77B86372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0D09B-B19F-4F07-9C56-F15151CE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598E1-E4A9-424D-805D-8BFED806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B0935-63B8-447C-8473-E7CDC837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DA200-C061-4B4E-9A5F-F5AEC82B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D2787-6146-424B-A776-4AED9826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2FC07-528F-4C13-BF21-32C4BCF2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591D0-449A-49E8-B141-2E217431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5EEC8-B1E9-4342-AC89-619AC0DC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03197-DF86-42CB-B507-926DBA61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4ED0-68E1-4BFC-B0BF-AE7F6C19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F2FDC-2965-4118-B233-853B4C5C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91C0E-0F81-4484-9EBD-D745E665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5BEA3-939A-41BB-A403-3713772C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300E2-2E4C-49E3-8EAC-A4044882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4B460-9AD9-4B99-B57D-A5304667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40B4E-5F84-48AE-B64D-3F465B41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DBB69-D630-48F8-AE58-20C4D94D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81CE0-9E71-4253-AF51-5CF4B4E7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ECAC0-6F57-4ECD-BAC3-E2CE463A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935E0-1271-4531-8D18-87A63FE4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4D8A-53DD-4C1F-AA18-71D84A9B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A254D-C219-40CE-B1A4-B38BC369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B1144-05CA-429B-8523-CCFA3226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B12E0-F69D-49B7-BF06-84E6F3B1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954BE-D1E5-40BB-A25C-0F9989DD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7ACE6-68CE-48F9-BD12-132B1C6A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99AF5-0B9D-4F84-B013-B8C35E9D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C5052-E7F4-4620-B11E-5062A3EE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A12A1-9C21-4149-A66B-41892480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93E31-654A-4984-858D-C206D600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F8634-A4EA-4DAB-A312-618A6557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D170-CC99-4753-A3E5-CE78054B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FAD68-8D52-4B0C-9014-D9F64C82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1B52F-A868-4D73-BB1E-FBB9A2FA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1C1F7-BC6B-484C-947B-E946EC76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57D13-18F2-48AF-A3BE-F57721DB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7A46F-7351-446F-B28C-069671F1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7CF55-AD96-441C-BABB-2C924C08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3CFCB-B582-4CA1-8248-5C6B21F6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967C9-3994-4A88-B846-6A73C408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F65A0-39B1-46F0-918F-78A66FF1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5D1BE-B3A1-492B-ABC5-9CAB041F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46A-305B-40E5-89BB-73F6520B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FEA04-97EF-46E1-9802-9549ED0B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105A2-2FD3-4489-ACB4-907AC094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17C4B-3793-4EE3-A221-3D7603A7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CCD1C-1DFB-4BBA-A496-FAAED43F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A4A96-B369-44FA-9B98-9B26A31B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4FB-3CCB-44F7-9372-1B3928C8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694D-073F-4D89-883A-868D358945B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30B7-2FAD-4B3B-91C7-ACBCF40F396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0DB4-0409-4869-9D2C-8D3A8E85A43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4450-8B21-468C-BA1D-3E5A95AE478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D6FC-6C01-4D03-85D8-224EEEDEBED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83EE-8A3C-48C6-81E9-BEB984C8B3E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03C7-90A0-4E06-BF56-476DBD150CD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785880"/>
            <a:ext cx="74070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572314"/>
                </a:solidFill>
                <a:latin typeface="Gill Sans MT"/>
              </a:rPr>
              <a:t>Ancient Greece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28840" y="2142720"/>
            <a:ext cx="7407360" cy="857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20e04"/>
                </a:solidFill>
                <a:latin typeface="Gill Sans MT"/>
              </a:rPr>
              <a:t>The Olympics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Picture 6" descr="olympics"/>
          <p:cNvPicPr/>
          <p:nvPr/>
        </p:nvPicPr>
        <p:blipFill>
          <a:blip r:embed="rId1"/>
          <a:stretch/>
        </p:blipFill>
        <p:spPr>
          <a:xfrm>
            <a:off x="5715000" y="2500200"/>
            <a:ext cx="2928960" cy="1494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7575480" y="0"/>
            <a:ext cx="1568520" cy="1422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" descr=""/>
          <p:cNvPicPr/>
          <p:nvPr/>
        </p:nvPicPr>
        <p:blipFill>
          <a:blip r:embed="rId3"/>
          <a:stretch/>
        </p:blipFill>
        <p:spPr>
          <a:xfrm>
            <a:off x="1714680" y="3071880"/>
            <a:ext cx="3429000" cy="341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72314"/>
                </a:solidFill>
                <a:latin typeface="Gill Sans MT"/>
              </a:rPr>
              <a:t>Ancient Greece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33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ncient Greece was not one country but lots of </a:t>
            </a:r>
            <a:r>
              <a:rPr b="1" lang="en-GB" sz="3200" spc="-1" strike="noStrike">
                <a:solidFill>
                  <a:srgbClr val="000000"/>
                </a:solidFill>
                <a:latin typeface="Gill Sans MT"/>
              </a:rPr>
              <a:t>city stat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hey called the land Hellas and themselves Hellen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hey shared the same language, religion and histor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7575480" y="0"/>
            <a:ext cx="1568520" cy="14223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2" descr=""/>
          <p:cNvPicPr/>
          <p:nvPr/>
        </p:nvPicPr>
        <p:blipFill>
          <a:blip r:embed="rId2"/>
          <a:stretch/>
        </p:blipFill>
        <p:spPr>
          <a:xfrm>
            <a:off x="4932360" y="4592520"/>
            <a:ext cx="421164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72314"/>
                </a:solidFill>
                <a:latin typeface="Gill Sans MT"/>
              </a:rPr>
              <a:t>The Olympics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00080" y="1447920"/>
            <a:ext cx="79344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he Olympics started around </a:t>
            </a:r>
            <a:r>
              <a:rPr b="1" lang="en-GB" sz="3200" spc="-1" strike="noStrike">
                <a:solidFill>
                  <a:srgbClr val="000000"/>
                </a:solidFill>
                <a:latin typeface="Gill Sans MT"/>
              </a:rPr>
              <a:t>776 BCE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hey were held in honour of their god </a:t>
            </a:r>
            <a:r>
              <a:rPr b="1" lang="en-GB" sz="3200" spc="-1" strike="noStrike">
                <a:solidFill>
                  <a:srgbClr val="000000"/>
                </a:solidFill>
                <a:latin typeface="Gill Sans MT"/>
              </a:rPr>
              <a:t>Zeus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hey took place every </a:t>
            </a:r>
            <a:r>
              <a:rPr b="1" lang="en-GB" sz="3200" spc="-1" strike="noStrike">
                <a:solidFill>
                  <a:srgbClr val="000000"/>
                </a:solidFill>
                <a:latin typeface="Gill Sans MT"/>
              </a:rPr>
              <a:t>4 years 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n August or September at </a:t>
            </a:r>
            <a:r>
              <a:rPr b="1" lang="en-GB" sz="3200" spc="-1" strike="noStrike">
                <a:solidFill>
                  <a:srgbClr val="000000"/>
                </a:solidFill>
                <a:latin typeface="Gill Sans MT"/>
              </a:rPr>
              <a:t>Olympia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he event lasted for about 5 day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Gill Sans MT"/>
              </a:rPr>
              <a:t>Any wars going on between the City States were stopped during the games so all could take par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7575480" y="0"/>
            <a:ext cx="15685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72314"/>
                </a:solidFill>
                <a:latin typeface="Gill Sans MT"/>
              </a:rPr>
              <a:t>The Olympics – Who could take part?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920"/>
            <a:ext cx="749952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Only </a:t>
            </a:r>
            <a:r>
              <a:rPr b="0" i="1" lang="en-GB" sz="3200" spc="-1" strike="noStrike">
                <a:solidFill>
                  <a:srgbClr val="000000"/>
                </a:solidFill>
                <a:latin typeface="Gill Sans MT"/>
              </a:rPr>
              <a:t>free-men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 who spoke Greek could take par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Who were they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Gill Sans MT"/>
              </a:rPr>
              <a:t>Women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 had a separate </a:t>
            </a:r>
            <a:r>
              <a:rPr b="0" i="1" lang="en-GB" sz="3200" spc="-1" strike="noStrike">
                <a:solidFill>
                  <a:srgbClr val="000000"/>
                </a:solidFill>
                <a:latin typeface="Gill Sans MT"/>
              </a:rPr>
              <a:t>games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 called the </a:t>
            </a:r>
            <a:r>
              <a:rPr b="1" lang="en-GB" sz="3200" spc="-1" strike="noStrike">
                <a:solidFill>
                  <a:srgbClr val="000000"/>
                </a:solidFill>
                <a:latin typeface="Gill Sans MT"/>
              </a:rPr>
              <a:t>Heraia 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n honour of Hera, Zeus’ wif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his was also held every </a:t>
            </a:r>
            <a:r>
              <a:rPr b="1" lang="en-GB" sz="3200" spc="-1" strike="noStrike">
                <a:solidFill>
                  <a:srgbClr val="000000"/>
                </a:solidFill>
                <a:latin typeface="Gill Sans MT"/>
              </a:rPr>
              <a:t>4 years 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but in a different year to the Olympic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8101080" y="5911920"/>
            <a:ext cx="104292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7575480" y="0"/>
            <a:ext cx="1568520" cy="142236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72314"/>
                </a:solidFill>
                <a:latin typeface="Gill Sans MT"/>
              </a:rPr>
              <a:t>The Olympics – Who took part?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5" name="Content Placeholder 4" descr=""/>
          <p:cNvPicPr/>
          <p:nvPr/>
        </p:nvPicPr>
        <p:blipFill>
          <a:blip r:embed="rId2"/>
          <a:stretch/>
        </p:blipFill>
        <p:spPr>
          <a:xfrm>
            <a:off x="1214280" y="1440000"/>
            <a:ext cx="728676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72314"/>
                </a:solidFill>
                <a:latin typeface="Gill Sans MT"/>
              </a:rPr>
              <a:t>The Olympics - Activity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42560" y="1447560"/>
            <a:ext cx="789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Gill Sans MT"/>
              </a:rPr>
              <a:t>- Look at the pictures from the Greek Olympic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Gill Sans MT"/>
              </a:rPr>
              <a:t>- Try to work out what each picture is show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25519"/>
                </a:solidFill>
                <a:latin typeface="Gill Sans MT"/>
              </a:rPr>
              <a:t>- Write a </a:t>
            </a:r>
            <a:r>
              <a:rPr b="0" i="1" lang="en-GB" sz="3200" spc="-1" strike="noStrike">
                <a:solidFill>
                  <a:srgbClr val="425519"/>
                </a:solidFill>
                <a:latin typeface="Gill Sans MT"/>
              </a:rPr>
              <a:t>caption </a:t>
            </a:r>
            <a:r>
              <a:rPr b="0" lang="en-GB" sz="3200" spc="-1" strike="noStrike">
                <a:solidFill>
                  <a:srgbClr val="425519"/>
                </a:solidFill>
                <a:latin typeface="Gill Sans MT"/>
              </a:rPr>
              <a:t>explaining what is happen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7030a0"/>
                </a:solidFill>
                <a:latin typeface="Gill Sans MT"/>
              </a:rPr>
              <a:t>How can you tell? What are you looking for? What clues are in the image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7575480" y="0"/>
            <a:ext cx="15685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72314"/>
                </a:solidFill>
                <a:latin typeface="Gill Sans MT"/>
              </a:rPr>
              <a:t>The Olympics - Activity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920"/>
            <a:ext cx="7499520" cy="28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Now you have looked at the pictur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- Put them into a </a:t>
            </a:r>
            <a:r>
              <a:rPr b="0" i="1" lang="en-GB" sz="3200" spc="-1" strike="noStrike">
                <a:solidFill>
                  <a:srgbClr val="000000"/>
                </a:solidFill>
                <a:latin typeface="Gill Sans MT"/>
              </a:rPr>
              <a:t>5 day programme 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of events just like the original Olympic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What else might have taken place as part of the games and celebration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7575480" y="0"/>
            <a:ext cx="1568520" cy="14223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" descr=""/>
          <p:cNvPicPr/>
          <p:nvPr/>
        </p:nvPicPr>
        <p:blipFill>
          <a:blip r:embed="rId2"/>
          <a:stretch/>
        </p:blipFill>
        <p:spPr>
          <a:xfrm>
            <a:off x="1000080" y="4222800"/>
            <a:ext cx="26431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57200" y="0"/>
            <a:ext cx="7499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72314"/>
                </a:solidFill>
                <a:latin typeface="Gill Sans MT"/>
              </a:rPr>
              <a:t>The Olympics - Event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42560" y="764640"/>
            <a:ext cx="8101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Wrestling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Boxing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Pankration – mix of boxing and wrestling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rumpeting (yes really, and the loudest wins!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Pentathlon - jumping, discus, javelin, running and wrestling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Running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Chariot racing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Horse racing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Race in armou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572314"/>
                </a:solidFill>
                <a:latin typeface="Gill Sans MT"/>
              </a:rPr>
              <a:t>Quiz</a:t>
            </a: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 – Ancient Greek Olympic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00080" y="1447920"/>
            <a:ext cx="814392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Gill Sans MT"/>
              </a:rPr>
              <a:t>What was different about Ancient Greece from most countrie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Gill Sans MT"/>
              </a:rPr>
              <a:t>When did the Olympics star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Gill Sans MT"/>
              </a:rPr>
              <a:t>Who were they in honour of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Gill Sans MT"/>
              </a:rPr>
              <a:t>How often did they take plac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Gill Sans MT"/>
              </a:rPr>
              <a:t>Which sports were at the Ancient Olympic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5:56:25Z</dcterms:created>
  <dc:creator>Your User Name</dc:creator>
  <dc:description/>
  <dc:language>en-US</dc:language>
  <cp:lastModifiedBy>Denney, Lisa</cp:lastModifiedBy>
  <dcterms:modified xsi:type="dcterms:W3CDTF">2020-06-09T17:49:09Z</dcterms:modified>
  <cp:revision>58</cp:revision>
  <dc:subject/>
  <dc:title>Ancient Greece</dc:title>
</cp:coreProperties>
</file>